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F3119-BAE8-4E2A-826A-9F90E9AAC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4E281-9219-41B2-A825-0ACB3A51B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351B5-AD2A-4560-90ED-C682C0F87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17DA7-C982-4819-B8CC-466015182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97B5C-7037-4177-9ACD-D0CF07173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41C9E-50E4-4020-ADB6-40D4EE2AC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1179E-643E-4366-B74A-9627BE09E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6CF33-89E6-4B44-8659-52352181C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4C579-E3AF-4BBA-8786-063F8BE08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D9AF3-BC81-4196-AFC4-940678293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F3835-B6EF-41F5-94A6-EFECF8C03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59F1D-A3CC-4087-849D-E44030900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59AD0-2D29-4E8C-B330-2382AE49C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029A0-B7F0-42E6-95C1-5D16B2F4C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FD917-3613-41A3-8B34-543C09B41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C24A7-56B2-4D36-BE71-F88F32BF9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9C9CE-18FB-44EE-A41D-1CFDC0F0D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2CF51-30B9-4FC6-A5B1-5FFFC09FC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94042-8CC3-40E1-B72E-43C825F06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C80E8-69EB-4BCB-A0A6-3AA538C37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0779F-0B17-4165-BF78-73A8B0A05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4660D-B6A6-496C-B256-0A4B8C343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A701B-D503-42DE-94FA-DE603F44D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104F4-F977-4306-8787-C79EA2F5E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AD36E-76F8-4BD1-902C-671308B1FBE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EB293-1323-4633-BFA5-5AC4CC8286A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Animal Adaptations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Remember!!!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imals better adapted to their environment are better able to survive and pass on their traits to their offspring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rvival of the Fittest.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4991040" y="2722680"/>
            <a:ext cx="33530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" restart="whenNotActive" nodeType="interactiveSeq" fill="hold">
                <p:stCondLst>
                  <p:cond evt="onClick">
                    <p:tgtEl>
                      <p:spTgt spid="123"/>
                    </p:tgtEl>
                  </p:cond>
                </p:stCondLst>
                <p:childTnLst>
                  <p:par>
                    <p:cTn id="18" fill="hold">
                      <p:stCondLst>
                        <p:cond evt="onClick">
                          <p:tgtEl>
                            <p:spTgt spid="123"/>
                          </p:tgtEl>
                        </p:cond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1" dur="1" fill="hold"/>
                                        <p:tgtEl>
                                          <p:spTgt spid="1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amouflage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ructural adapt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ows species to blend in with their surrounding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ows a species to avoid detection by predator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4648320" y="235116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7" dur="2000" fill="hold"/>
                                        <p:tgtEl>
                                          <p:spTgt spid="12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" dur="1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" dur="10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" dur="10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" restart="whenNotActive" nodeType="interactiveSeq" fill="hold">
                <p:stCondLst>
                  <p:cond evt="onClick">
                    <p:tgtEl>
                      <p:spTgt spid="126"/>
                    </p:tgtEl>
                  </p:cond>
                </p:stCondLst>
                <p:childTnLst>
                  <p:par>
                    <p:cTn id="50" fill="hold">
                      <p:stCondLst>
                        <p:cond evt="onClick">
                          <p:tgtEl>
                            <p:spTgt spid="126"/>
                          </p:tgtEl>
                        </p:cond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3" dur="1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Warning Coloration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lors that “warn” possible predators to “stay away”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d, Black, Oran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4991040" y="2722680"/>
            <a:ext cx="33530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8" dur="1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3" dur="10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" restart="whenNotActive" nodeType="interactiveSeq" fill="hold">
                <p:stCondLst>
                  <p:cond evt="onClick">
                    <p:tgtEl>
                      <p:spTgt spid="129"/>
                    </p:tgtEl>
                  </p:cond>
                </p:stCondLst>
                <p:childTnLst>
                  <p:par>
                    <p:cTn id="75" fill="hold">
                      <p:stCondLst>
                        <p:cond evt="onClick">
                          <p:tgtEl>
                            <p:spTgt spid="129"/>
                          </p:tgtEl>
                        </p:cond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78" dur="1" fill="hold"/>
                                        <p:tgtEl>
                                          <p:spTgt spid="1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Mimicry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ructural adaptati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ables one species to resemble another speci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y provide protection from predators or provide other advantag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rmless species looks like a harmful on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991040" y="2722680"/>
            <a:ext cx="33530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84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3" restart="whenNotActive" nodeType="interactiveSeq" fill="hold">
                <p:stCondLst>
                  <p:cond evt="onClick">
                    <p:tgtEl>
                      <p:spTgt spid="132"/>
                    </p:tgtEl>
                  </p:cond>
                </p:stCondLst>
                <p:childTnLst>
                  <p:par>
                    <p:cTn id="114" fill="hold">
                      <p:stCondLst>
                        <p:cond evt="onClick">
                          <p:tgtEl>
                            <p:spTgt spid="132"/>
                          </p:tgtEl>
                        </p:cond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7" dur="1" fill="hold"/>
                                        <p:tgtEl>
                                          <p:spTgt spid="1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Resource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Citation (MLA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ypes of Interactions Within Ecosystems. United Learning. 2006.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iscovery Education. 11 May 2009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http://streaming.discoveryeducation.com/&gt;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Citation (MLA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mbusher: Praying Mantis. Classroom Media. 2000.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iscovery Education. 11 May 2009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http://streaming.discoveryeducation.com/&gt;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Citation (MLA)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elationships Between Populations: Predator-Prey. Aims Multimedia. 1996.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iscovery Education. 11 May 2009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&lt;http://streaming.discoveryeducation.com/&gt;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Citation (MLA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xploring the Diversity of Life: Not What They Seem. Environmental Media. 1998.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iscovery Education. 11 May 2009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http://streaming.discoveryeducation.com/&gt;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1T12:38:01Z</dcterms:created>
  <dc:creator>Clear Creek ISD</dc:creator>
  <dc:description/>
  <dc:language>en-US</dc:language>
  <cp:lastModifiedBy>Clear Creek ISD</cp:lastModifiedBy>
  <dcterms:modified xsi:type="dcterms:W3CDTF">2009-05-11T17:23:54Z</dcterms:modified>
  <cp:revision>4</cp:revision>
  <dc:subject/>
  <dc:title>Animal Adaptations</dc:title>
</cp:coreProperties>
</file>